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4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5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9659-1147-4C13-862B-DDD6E6CD228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Img"/>
          </p:nvPr>
        </p:nvSpPr>
        <p:spPr>
          <a:xfrm>
            <a:off x="0" y="53928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1023480" y="3372120"/>
            <a:ext cx="818748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9187-B7DB-4360-AC30-E2B9FC51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532-E78B-42E7-A615-5CB1AF5A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F78E2-8D9A-4177-8EC3-80BED71D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2AED2-C734-449A-923C-20CA8D1A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58E18-F0F6-4585-B21F-B1162A97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9B806-BD79-4AB6-BDDE-0B1C82AF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97FA8-0E79-4C17-884C-7C31F7BD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7C653-A3BB-4237-8737-D846AC3E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967C0-DB46-42C0-B1E7-92520544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E62D0-3C76-4C51-BDED-6A76ABE8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AACFB-6B05-476C-865B-06CE12AFA8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EF9812-0106-4919-8E33-E8813CD52A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C80-2674-4638-97EC-A027CA71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09060F-A3F1-4CF0-8667-E692C42E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F27C7E-7E81-447E-9172-50C28112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640294-040B-4B95-948F-CE62C196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3EE4CB-A3B0-48C4-B21B-A709C6F0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9179EA-B099-4173-ADE3-ECEC056A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31DC70-CC1C-4D53-8092-D8E99387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45B98B-EC0B-4C86-9DE8-5D81662F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B59882-B1E7-4AF5-8872-4C946633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056574-C980-4664-9B56-D3520806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502B1C-656B-414D-A6C7-341E6EB4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5E9-738C-4987-BDED-6C3614EA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0C64CD-6826-414D-A668-DF7E15D174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67B256-C99C-41F4-8A06-D8045C3CD4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2FC286-841F-405B-816B-871D5BC4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02F751-F0B8-4A30-A535-115B9281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DEF2E7-7E5B-4110-AD5D-637AEB56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C68924-455E-43E5-A3D9-5C58BFB7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600F1F-1399-4E86-8280-533460F8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8495C8-1C25-42E4-89B6-883E61FB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FA90AB-7F83-40DA-8A99-D0D292C0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8055DA-2DD5-4CEB-A377-0584DA37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B3FD-FFC6-47FC-AD44-35B3C835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6640DA-6D16-4B20-B6FB-D9320B00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A97DCD-011F-4C7D-BAF2-C38B0D71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D4949D-8B9F-4D13-AC89-669A8D9426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53AF8-A35C-4445-AD39-D0DF712D62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2EBCD-E77B-4346-B7BD-8C92DF36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28BA8-075B-4424-9567-10083097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28AD3-A03F-47E0-920A-DEABD835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7B069-A47B-44E4-B2BF-CC334535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D892E-6C5B-4244-B069-18481A07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17C30-180C-49D7-BB83-4874142C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F292-2142-4C95-A3E7-D458D3FD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F25CB-EC72-4601-A35E-53859C58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C82A5-2933-487E-8D5A-0BC2794C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9B9F7-AA00-4271-B79E-E391062D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C5AD9-314D-4972-A626-6ADDB7CD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D7759-A3AD-40F0-AE52-1AE460F358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827E7B-E714-44B2-AC31-A6F0ED4C4F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05F5B6-3A84-41FA-BEEC-5F6B2AB5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5A1F6C-F927-483D-B628-3CC77BB6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B66E69-EE94-4BD0-B910-6FC43FCE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6E2552-3A36-4EE8-ABE8-2F938D54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E4A6-9E3B-41ED-98AD-5B74062F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0ED209-CEFC-4DC3-99E4-CB94CC0E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48B260-B7F6-4C28-80F9-51A1A8FA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9ACB1E-E900-4A56-9025-DBB6B263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CA00D5-2B22-4475-87D6-091A9050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3C86FF-040A-4B42-A2C3-85DB7AD3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AB86F2-04EC-4B7E-8283-34B92E4A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088AE2-971D-4761-9546-5BE9A56897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598E-A52F-46DA-A91D-7AA93E96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ECCB-A2EA-4682-A8B8-5C804E8A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8B6D-C730-4834-B3D1-27D2567C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E000-4F6A-44EC-95A3-8539F6AA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319E-1C5C-472C-9B9F-7515F6B3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4DE9-904E-4DB0-9E9B-8910806F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4AAB-2C3E-4AE8-9C98-FDA133E7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0D24-6B4A-483C-AD10-A4A54DEE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787C-475B-47B3-81D3-1749B006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62C9-305A-456A-B9A8-EFFB18A6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F4E07-8F1A-4123-81DF-2BCBFB93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94D19-87ED-4620-99C5-22B682CD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97BB5-CF47-4E77-9D17-311D5434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52EE5-86FD-4644-8424-EB07CC8E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F9FCD-4EEE-4F16-BDCD-A39A3786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9713-F548-42E1-8205-A5AA0A21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CEB86-0109-432F-8472-2A7090A5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24A3A-58DC-4F84-8F91-76D8A3D2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EE9B8-DB8C-407B-8654-FE1D81B7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C538B-3E82-40A7-BD31-43D2B433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F80E-3C3A-4AFB-8C42-B27E325E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DE4B9-2921-4113-8259-71C0EDD3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CB86E-AA9A-4E1C-B011-345C7B4B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A58-395F-43F4-9FE0-26FCC645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5824-F4F7-4504-919C-29962EE6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615C-8B60-42D3-A661-D6569921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21CF-4A24-4D7D-8881-FC5226C0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C94582-218E-4A1E-9B6C-068116FDF1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3B6FE5-1B16-40D8-AF1A-F87D63DB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EB1D83-9E77-446F-829C-1B0455E4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9EF4BB-4165-4A77-96C5-B3AD992F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7BD204-9699-4FE5-AA26-0C302EB0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F49635-9BF1-40A2-B877-2AAE4194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8A2FB5-84C6-4E9F-A1FE-38EBED9A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F055-77F8-4228-9293-5559C01A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C1F64A-D730-4840-A68C-8C195949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224E56-B621-4AEE-89FD-C1791ABC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188450-5CA2-49CF-B2E3-6914DDEE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5FAD26-60A5-4B78-A24F-7CAA085B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0A526D-2F2E-4738-A0A7-D8F40AB62A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8A1DC4-749B-48FA-8133-ADE11399F6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636A3B-FC37-4693-AA48-AE5FE428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3ED4E7-E77A-4C0E-8BF6-1DE35205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CE55AA-53B4-4EB8-BDC0-06475299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C99CA5-6B8C-4359-827A-DC3A0B72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A8BA-96CE-4D5D-9C73-D34F9AA0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44F4EA-8769-45CF-A992-23CB0620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00D7AF-F612-40E5-97C8-3FE3BF8C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364070-97FE-4AE6-B204-6A37F5D6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AAB1C8-F859-47E4-97F2-3DEA584A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1DC1E8-A872-4E17-91EF-FD3A2F42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FE5991-D193-4957-86FF-0F7EAF3B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F9A724-209E-44DB-85FF-7A25AD6DE8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A8DFD-0D3A-48F7-A06E-556F4DE494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E6EDC-764F-4DB8-891F-5CD5432B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DECB6-E600-41D8-801A-A91A1F4F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ssemblea Nazionale CIOFS-FP  Roma, 25-26 Ottobre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2DD5-5642-4B76-B778-891A6B8682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552F-65EC-4BD6-90FB-B6CDE4245E31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FB2A-357F-470B-9AEE-0EFCF3EBCD9A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0014-9B64-4786-A992-9C85002D4B7F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5906-066D-42FA-B66C-F775BB08352A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52B9-98E7-4C82-AD75-B45F6CC7C52C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D173-4988-42F5-96E3-F2F9191DB1C4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ruppo 6" descr=""/>
          <p:cNvPicPr/>
          <p:nvPr/>
        </p:nvPicPr>
        <p:blipFill>
          <a:blip r:embed="rId2"/>
          <a:stretch/>
        </p:blipFill>
        <p:spPr>
          <a:xfrm>
            <a:off x="79200" y="66600"/>
            <a:ext cx="4797720" cy="847800"/>
          </a:xfrm>
          <a:prstGeom prst="rect">
            <a:avLst/>
          </a:prstGeom>
          <a:ln w="0">
            <a:noFill/>
          </a:ln>
        </p:spPr>
      </p:pic>
      <p:sp>
        <p:nvSpPr>
          <p:cNvPr id="124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66b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uppo 4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26" name="Immagine 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  <a:ea typeface="Calibri"/>
              </a:rPr>
              <a:t>Assemblea Nazionale e CDN CIOFS-FP  Roma, 2-4 aprile 20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ruppo 6" descr=""/>
          <p:cNvPicPr/>
          <p:nvPr/>
        </p:nvPicPr>
        <p:blipFill>
          <a:blip r:embed="rId2"/>
          <a:stretch/>
        </p:blipFill>
        <p:spPr>
          <a:xfrm>
            <a:off x="79200" y="73080"/>
            <a:ext cx="4797720" cy="439560"/>
          </a:xfrm>
          <a:prstGeom prst="rect">
            <a:avLst/>
          </a:prstGeom>
          <a:ln w="0">
            <a:noFill/>
          </a:ln>
        </p:spPr>
      </p:pic>
      <p:sp>
        <p:nvSpPr>
          <p:cNvPr id="168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uppo 10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70" name="Immagine 1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Nazionale CIOFS-FP - Roma, 25 marzo 20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Gruppo 6" descr=""/>
          <p:cNvPicPr/>
          <p:nvPr/>
        </p:nvPicPr>
        <p:blipFill>
          <a:blip r:embed="rId2"/>
          <a:stretch/>
        </p:blipFill>
        <p:spPr>
          <a:xfrm>
            <a:off x="42840" y="66600"/>
            <a:ext cx="4834080" cy="847800"/>
          </a:xfrm>
          <a:prstGeom prst="rect">
            <a:avLst/>
          </a:prstGeom>
          <a:ln w="0">
            <a:noFill/>
          </a:ln>
        </p:spPr>
      </p:pic>
      <p:sp>
        <p:nvSpPr>
          <p:cNvPr id="212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tangolo 10"/>
          <p:cNvSpPr/>
          <p:nvPr/>
        </p:nvSpPr>
        <p:spPr>
          <a:xfrm>
            <a:off x="-6480" y="6570720"/>
            <a:ext cx="7412040" cy="49320"/>
          </a:xfrm>
          <a:prstGeom prst="rect">
            <a:avLst/>
          </a:prstGeom>
          <a:solidFill>
            <a:srgbClr val="ffd8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e CDN - Roma, 26/27 marzo 20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magine 12" descr=""/>
          <p:cNvPicPr/>
          <p:nvPr/>
        </p:nvPicPr>
        <p:blipFill>
          <a:blip r:embed="rId3"/>
          <a:stretch/>
        </p:blipFill>
        <p:spPr>
          <a:xfrm>
            <a:off x="7543800" y="6248520"/>
            <a:ext cx="1374840" cy="426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3D14-D2D2-4C56-8FB5-EAA782FA2A5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93FA-D097-44CF-9CE6-60DA2C627AA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D91B-CEE4-4575-A3D4-B8CBCD757C81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ttangolo 40"/>
          <p:cNvSpPr/>
          <p:nvPr/>
        </p:nvSpPr>
        <p:spPr>
          <a:xfrm>
            <a:off x="0" y="5811840"/>
            <a:ext cx="9140760" cy="104616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tolo 1"/>
          <p:cNvSpPr/>
          <p:nvPr/>
        </p:nvSpPr>
        <p:spPr>
          <a:xfrm>
            <a:off x="228600" y="6194520"/>
            <a:ext cx="2975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ttangolo 37"/>
          <p:cNvSpPr/>
          <p:nvPr/>
        </p:nvSpPr>
        <p:spPr>
          <a:xfrm flipV="1" rot="10800000">
            <a:off x="2743200" y="406800"/>
            <a:ext cx="4332240" cy="1731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Roma, 26 marzo 20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D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ttangolo 41"/>
          <p:cNvSpPr/>
          <p:nvPr/>
        </p:nvSpPr>
        <p:spPr>
          <a:xfrm>
            <a:off x="0" y="3232080"/>
            <a:ext cx="9144000" cy="141120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19360" y="3648240"/>
            <a:ext cx="4360680" cy="14112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CIOFS SCUOLA FMA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BILANCIO 202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PREVENTIVO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Immagine 1" descr=""/>
          <p:cNvPicPr/>
          <p:nvPr/>
        </p:nvPicPr>
        <p:blipFill>
          <a:blip r:embed="rId1"/>
          <a:stretch/>
        </p:blipFill>
        <p:spPr>
          <a:xfrm>
            <a:off x="3425760" y="5905440"/>
            <a:ext cx="22449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ttangolo 1"/>
          <p:cNvSpPr/>
          <p:nvPr/>
        </p:nvSpPr>
        <p:spPr>
          <a:xfrm>
            <a:off x="510480" y="457200"/>
            <a:ext cx="207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L FATTURA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ttangolo 2"/>
          <p:cNvSpPr/>
          <p:nvPr/>
        </p:nvSpPr>
        <p:spPr>
          <a:xfrm>
            <a:off x="1714680" y="93492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 +40,5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2133720" y="1295280"/>
          <a:ext cx="4572000" cy="1344600"/>
        </p:xfrm>
        <a:graphic>
          <a:graphicData uri="http://schemas.openxmlformats.org/drawingml/2006/table">
            <a:tbl>
              <a:tblPr/>
              <a:tblGrid>
                <a:gridCol w="2350800"/>
                <a:gridCol w="2221200"/>
              </a:tblGrid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CONTO ECONOM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RIC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149.03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88.67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60.35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VARIAZIONI % 2021/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40,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Rettangolo 5"/>
          <p:cNvSpPr/>
          <p:nvPr/>
        </p:nvSpPr>
        <p:spPr>
          <a:xfrm>
            <a:off x="-152280" y="28144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0c0"/>
                </a:solidFill>
                <a:latin typeface="Calibri Light"/>
                <a:ea typeface="Calibri"/>
              </a:rPr>
              <a:t>Distribuzione percentuale dei ricavi per progetti/a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Grafico 11"/>
          <p:cNvGraphicFramePr/>
          <p:nvPr/>
        </p:nvGraphicFramePr>
        <p:xfrm>
          <a:off x="196920" y="2763720"/>
          <a:ext cx="8750160" cy="367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5" name="Grafico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2763720"/>
                    <a:ext cx="875016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ttangolo 1"/>
          <p:cNvSpPr/>
          <p:nvPr/>
        </p:nvSpPr>
        <p:spPr>
          <a:xfrm>
            <a:off x="380880" y="2494080"/>
            <a:ext cx="84582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70c0"/>
                </a:solidFill>
                <a:latin typeface="Calibri"/>
              </a:rPr>
              <a:t>LA DISTRIBUZIONE PERCENTUALE DEI C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ttangolo 1"/>
          <p:cNvSpPr/>
          <p:nvPr/>
        </p:nvSpPr>
        <p:spPr>
          <a:xfrm>
            <a:off x="538560" y="457200"/>
            <a:ext cx="110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COS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ttangolo 2"/>
          <p:cNvSpPr/>
          <p:nvPr/>
        </p:nvSpPr>
        <p:spPr>
          <a:xfrm flipH="1">
            <a:off x="7127280" y="1041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l +25,58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Grafico 7"/>
          <p:cNvGraphicFramePr/>
          <p:nvPr/>
        </p:nvGraphicFramePr>
        <p:xfrm>
          <a:off x="177840" y="2692440"/>
          <a:ext cx="8559720" cy="39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1" name="Grafico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692440"/>
                    <a:ext cx="855972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CasellaDiTesto 2"/>
          <p:cNvSpPr/>
          <p:nvPr/>
        </p:nvSpPr>
        <p:spPr>
          <a:xfrm>
            <a:off x="969840" y="26766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  <a:ea typeface="Calibri"/>
              </a:rPr>
              <a:t>DISTRIBUZIONE PERCENTUALE DEI C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905120" y="1014480"/>
          <a:ext cx="4800600" cy="1533600"/>
        </p:xfrm>
        <a:graphic>
          <a:graphicData uri="http://schemas.openxmlformats.org/drawingml/2006/table">
            <a:tbl>
              <a:tblPr/>
              <a:tblGrid>
                <a:gridCol w="2468520"/>
                <a:gridCol w="2332080"/>
              </a:tblGrid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NTO ECONOMIC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S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51.36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12.64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ASSOLU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38.71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5,5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ttangolo 1"/>
          <p:cNvSpPr/>
          <p:nvPr/>
        </p:nvSpPr>
        <p:spPr>
          <a:xfrm>
            <a:off x="543600" y="360360"/>
            <a:ext cx="3987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Calibri"/>
              </a:rPr>
              <a:t>Risultato di eserciz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ttangolo 2"/>
          <p:cNvSpPr/>
          <p:nvPr/>
        </p:nvSpPr>
        <p:spPr>
          <a:xfrm flipH="1">
            <a:off x="762120" y="1371600"/>
            <a:ext cx="7696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A seguito delle risultanze di bilanc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si  evidenzi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 u="sng">
                <a:solidFill>
                  <a:srgbClr val="09446e"/>
                </a:solidFill>
                <a:uFillTx/>
                <a:latin typeface="Calibri"/>
              </a:rPr>
              <a:t>un disavanzo di esercizi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  3.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dopo le imposte per IRAP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</a:t>
            </a: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67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DEMPIMENTI LEGISL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ttangolo 2"/>
          <p:cNvSpPr/>
          <p:nvPr/>
        </p:nvSpPr>
        <p:spPr>
          <a:xfrm>
            <a:off x="152280" y="1282680"/>
            <a:ext cx="8686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2060"/>
                </a:solidFill>
                <a:latin typeface="Calibri"/>
              </a:rPr>
              <a:t>Rispettate le norme in materia d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CCANTONAMENTO TF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Le somme maturate a favore dei dipendenti nel fondo esposto in bilancio sono state versate su un apposito conto assicurativo, per garantire l’immediata disponibilità monet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GGIORNAMENTO DEL PERSONALE INTERN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attraverso specifici Percorsi di Formazione sulla base dei fabbisogni espre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PROSPETTIVE PER IL 202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ttangolo 2"/>
          <p:cNvSpPr/>
          <p:nvPr/>
        </p:nvSpPr>
        <p:spPr>
          <a:xfrm>
            <a:off x="33480" y="923760"/>
            <a:ext cx="86868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SI PREVEDE UN FATTURATO GLOBALE IN LIEVE FLESSIONE RISPETTO ALL’ANNO PRECE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Sarebbe auspicabile sostenere le attività istituzionali con: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ricorso più massiccio al Fond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ipotesi di adesione al Terzo Setto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PERCH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L’ente è già organizzato a livello amministrativo cont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migliorata la capacità organizzativo-gestio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che grazie all’utilizzo di software di conta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VOTAZ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ttangolo 2"/>
          <p:cNvSpPr/>
          <p:nvPr/>
        </p:nvSpPr>
        <p:spPr>
          <a:xfrm>
            <a:off x="152280" y="128268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Alla luce delle considerazioni svolte nei punti precedenti e di quanto esposto nella Nota Integ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la Segretaria N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Vi propone di approvare il progetto di bilancio che Vi viene sottopo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e di coprire il disavanzo di gestione pari ad euro </a:t>
            </a:r>
            <a:r>
              <a:rPr b="0" i="1" lang="it-IT" sz="28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3.000 con il Fondo Associ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itolo 1"/>
          <p:cNvSpPr/>
          <p:nvPr/>
        </p:nvSpPr>
        <p:spPr>
          <a:xfrm>
            <a:off x="0" y="76320"/>
            <a:ext cx="91440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REVENTIVO ESERCIZI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Tabella 6" descr=""/>
          <p:cNvPicPr/>
          <p:nvPr/>
        </p:nvPicPr>
        <p:blipFill>
          <a:blip r:embed="rId1"/>
          <a:stretch/>
        </p:blipFill>
        <p:spPr>
          <a:xfrm>
            <a:off x="371520" y="414360"/>
            <a:ext cx="81025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ttangolo 40"/>
          <p:cNvSpPr/>
          <p:nvPr/>
        </p:nvSpPr>
        <p:spPr>
          <a:xfrm>
            <a:off x="0" y="5257800"/>
            <a:ext cx="9140760" cy="1600200"/>
          </a:xfrm>
          <a:prstGeom prst="rect">
            <a:avLst/>
          </a:prstGeom>
          <a:solidFill>
            <a:srgbClr val="efe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ttangolo 41"/>
          <p:cNvSpPr/>
          <p:nvPr/>
        </p:nvSpPr>
        <p:spPr>
          <a:xfrm>
            <a:off x="0" y="2895480"/>
            <a:ext cx="9144000" cy="67968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7927920" cy="67968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  <a:ea typeface="Calibri"/>
              </a:rPr>
              <a:t>Grazie per l’atten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ttangolo 1"/>
          <p:cNvSpPr/>
          <p:nvPr/>
        </p:nvSpPr>
        <p:spPr>
          <a:xfrm>
            <a:off x="380880" y="1066680"/>
            <a:ext cx="85345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IL CONTESTO MACRO-ECONO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NEL 2021 CONTINUA LO STATO DI CRISI PER LA PAN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interi settori economici devasta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recarietà, nuove povertà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sperequazione dei redditi e concentrazione della ricchez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Obiettivo del Governo entro il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er un ritorno graduale alla “normalità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portare avanti la campagna vacc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untare su crescita del PIL e stabilità (Next Generation EU, PNR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Ma…….il 24 febbraio 2022 la Russia attacca l’Ucra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ttangolo 1"/>
          <p:cNvSpPr/>
          <p:nvPr/>
        </p:nvSpPr>
        <p:spPr>
          <a:xfrm>
            <a:off x="457200" y="1612800"/>
            <a:ext cx="85345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Nel corso del 202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l’Associazione ha operato nell’ambito del sistema educativo dell’istruzione e della form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llaborando princip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n enti pubblici e privati nazion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(FONDER, MIUR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itolo 1"/>
          <p:cNvSpPr/>
          <p:nvPr/>
        </p:nvSpPr>
        <p:spPr>
          <a:xfrm>
            <a:off x="6019920" y="455760"/>
            <a:ext cx="281916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tolo 1"/>
          <p:cNvSpPr/>
          <p:nvPr/>
        </p:nvSpPr>
        <p:spPr>
          <a:xfrm>
            <a:off x="0" y="5302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A GESTIONE ECONOMICO-FINANZIARIA ED IL RISCHIO DI LIQUID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ttangolo 2"/>
          <p:cNvSpPr/>
          <p:nvPr/>
        </p:nvSpPr>
        <p:spPr>
          <a:xfrm>
            <a:off x="235080" y="1066680"/>
            <a:ext cx="8686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LA GESTIONE FINANZ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stata attu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UN’ATTENTA E PUNTUALE GESTIONE FINANZIARIA</a:t>
            </a: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 ricorrend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dilazioni di pagamento e richieste di posticipo delle scadenze a fornitori abitu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temporanee compensazioni tra attiv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riscossioni di acconti/saldi di progetti in erogazione e/o conclusi con riconosciuto pari al 100% e riscossione totale del saldo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ticipazioni Infruttifere da s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ttangolo 1"/>
          <p:cNvSpPr/>
          <p:nvPr/>
        </p:nvSpPr>
        <p:spPr>
          <a:xfrm>
            <a:off x="380880" y="1295280"/>
            <a:ext cx="80773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Il bilancio d’esercizio 2021 del CIOFS SCUOLA F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è stato redatto nel rispetto delle norme nazionali ed europee vigenti in mate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ttangolo 4"/>
          <p:cNvSpPr/>
          <p:nvPr/>
        </p:nvSpPr>
        <p:spPr>
          <a:xfrm>
            <a:off x="1447920" y="2666880"/>
            <a:ext cx="701028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Si compone dei seguenti document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Bilancio C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Nota Integr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e dalla Relazione del Collegio dei Revisor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9446e"/>
                </a:solidFill>
                <a:latin typeface="Calibri"/>
              </a:rPr>
              <a:t>(Controllo Legale e di Revisione Legale dei Con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ttangolo 1"/>
          <p:cNvSpPr/>
          <p:nvPr/>
        </p:nvSpPr>
        <p:spPr>
          <a:xfrm>
            <a:off x="609480" y="1295280"/>
            <a:ext cx="807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ttangolo 4"/>
          <p:cNvSpPr/>
          <p:nvPr/>
        </p:nvSpPr>
        <p:spPr>
          <a:xfrm>
            <a:off x="343080" y="2209680"/>
            <a:ext cx="8610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COMPOSI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DELL’ATTIVO E DEL PASSIVO PATRIMON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itolo 1"/>
          <p:cNvSpPr/>
          <p:nvPr/>
        </p:nvSpPr>
        <p:spPr>
          <a:xfrm>
            <a:off x="4114800" y="455760"/>
            <a:ext cx="472428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DATI AGGREG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itolo 1"/>
          <p:cNvSpPr/>
          <p:nvPr/>
        </p:nvSpPr>
        <p:spPr>
          <a:xfrm>
            <a:off x="25560" y="466560"/>
            <a:ext cx="8966160" cy="4590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TTIVO PATRIMONIALE – COMPOSIZIONE PERCEN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Grafico 4"/>
          <p:cNvGraphicFramePr/>
          <p:nvPr/>
        </p:nvGraphicFramePr>
        <p:xfrm>
          <a:off x="177840" y="2387520"/>
          <a:ext cx="8636040" cy="38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Gra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387520"/>
                    <a:ext cx="86360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438280" y="1181160"/>
          <a:ext cx="3810240" cy="1257120"/>
        </p:xfrm>
        <a:graphic>
          <a:graphicData uri="http://schemas.openxmlformats.org/drawingml/2006/table">
            <a:tbl>
              <a:tblPr/>
              <a:tblGrid>
                <a:gridCol w="1947960"/>
                <a:gridCol w="186228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46.68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35.234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11.449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4,5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CasellaDiTesto 7"/>
          <p:cNvSpPr/>
          <p:nvPr/>
        </p:nvSpPr>
        <p:spPr>
          <a:xfrm>
            <a:off x="6524640" y="243828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ncremento rispe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ll’anno prece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+ 24,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ttangolo 4"/>
          <p:cNvSpPr/>
          <p:nvPr/>
        </p:nvSpPr>
        <p:spPr>
          <a:xfrm>
            <a:off x="266760" y="457200"/>
            <a:ext cx="861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PASSIVO PATRIMONIALE – COMPOSIZIONE PERCENTUA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Grafico 5"/>
          <p:cNvGraphicFramePr/>
          <p:nvPr/>
        </p:nvGraphicFramePr>
        <p:xfrm>
          <a:off x="635040" y="1473120"/>
          <a:ext cx="7645320" cy="45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6" name="Grafic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1473120"/>
                    <a:ext cx="764532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ttangolo 1"/>
          <p:cNvSpPr/>
          <p:nvPr/>
        </p:nvSpPr>
        <p:spPr>
          <a:xfrm>
            <a:off x="372960" y="2249640"/>
            <a:ext cx="84582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2060"/>
                </a:solidFill>
                <a:latin typeface="Calibri"/>
                <a:ea typeface="Calibri"/>
              </a:rPr>
              <a:t>LA DISTRIBUZIONE PERCENTUALE DEI RICAVI E DEI COSTI DI ESERCIZ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itolo 1"/>
          <p:cNvSpPr/>
          <p:nvPr/>
        </p:nvSpPr>
        <p:spPr>
          <a:xfrm>
            <a:off x="1828800" y="685800"/>
            <a:ext cx="504684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COSTI E DEI RIC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1:13:54Z</dcterms:created>
  <dc:creator>Federica Ruggiero</dc:creator>
  <dc:description/>
  <dc:language>en-US</dc:language>
  <cp:lastModifiedBy>maria paolucci</cp:lastModifiedBy>
  <cp:lastPrinted>2022-03-24T10:31:40Z</cp:lastPrinted>
  <dcterms:modified xsi:type="dcterms:W3CDTF">2022-03-26T14:00:18Z</dcterms:modified>
  <cp:revision>3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